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074-8250-4BD5-8AB5-5F4DAF21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6A9-B4CC-4703-9D28-3802D339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628-0F27-46D1-A4C5-DCE00D5A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BDA-7260-4244-B872-BD9135BC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9EA-478A-4F14-BC2C-F44DDBFE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DCA-1703-482C-B4C9-27844AFB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284-5828-4F68-B4FC-67876CC0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33F-FA00-41B8-B9AD-A6710846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C5B-E8DD-424C-A62C-2D74F3B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A96-2261-4F74-B151-8657C62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17F-B89A-4158-9349-C3716B7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F9E-A141-419B-914B-582A306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C41-841B-4816-963F-FBAE6827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3911760"/>
              <a:ext cx="4500720" cy="29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0" r="0" b="12136"/>
            <a:stretch/>
          </p:blipFill>
          <p:spPr>
            <a:xfrm>
              <a:off x="4500720" y="3645000"/>
              <a:ext cx="464328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0" r="13949" b="-543"/>
            <a:stretch/>
          </p:blipFill>
          <p:spPr>
            <a:xfrm>
              <a:off x="0" y="0"/>
              <a:ext cx="4500720" cy="39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4500720" y="0"/>
              <a:ext cx="4643280" cy="364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2636640"/>
            <a:ext cx="453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II. világháború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repülőgé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A „Vörös báró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640" y="2421000"/>
            <a:ext cx="370836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anfred von Richthofen egy első világháborús hős vo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ivatalosan 80 légicsatát nyert meg, nem hivatalosan még több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0" y="5084640"/>
            <a:ext cx="57960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épen látható a közismert, három fedeles Fokker -e. Az első világháború vége felé, a kétfedeles, mozgékonyabb gépekkel, még egy jó ideig nem bírták lelő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égcsavaros gép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3827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sserschmitt Me109: a német lele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áború végéig halálos fegyvernek minősü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unkers Ju87 „Stuka”: a „légi kábítósz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” zuhanóbombázó, pontos bombáz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4000" y="3933720"/>
            <a:ext cx="3419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pitfi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eje háromrétegű szárnyában rejlet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sőbbi változata még a sugárhajtóművekkel is tartotta a versen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émet fejlesztés: A sugárhajtóm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sserschmitt Me 262 ”Schwalb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grásszerű sebességnöveked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gazából 1945-ig prototípus mara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c a levegő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038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gliai légics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orsaság az ügyesség 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arl-harb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lepetés er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5520" y="3573000"/>
            <a:ext cx="403848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way szig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lbizakodottság hat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z anyahajó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4920" y="5445000"/>
            <a:ext cx="5257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ülőgép hordozó haj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ízen úszó kifutópály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ap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genek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öldi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3213000"/>
            <a:ext cx="6337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titkos fegyvereinek egy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áború vég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0 km/h seb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0 m maga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2:01:14Z</dcterms:created>
  <dc:creator>Anya</dc:creator>
  <dc:description/>
  <dc:language>en-US</dc:language>
  <cp:lastModifiedBy>Anya</cp:lastModifiedBy>
  <dcterms:modified xsi:type="dcterms:W3CDTF">2012-02-05T19:48:32Z</dcterms:modified>
  <cp:revision>15</cp:revision>
  <dc:subject/>
  <dc:title>A II. világháború repülőgépei</dc:title>
</cp:coreProperties>
</file>